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1FA3A-F842-492C-8BC7-DBF4F3898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55064-1709-4EF7-B61D-74A265135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3D196-5C94-48F2-988D-D5BFF8F2A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3721A-713A-44BD-8E95-8993261A2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4FF2B-546B-400B-94BF-4B8476856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498AF-B1B2-4946-8BBE-9D12E8590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629B6-9A5A-4717-B0C4-62EE41152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B0C75-98F1-4B1C-9EC6-F92674EAC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4E62A-FEDF-464A-AD9D-4D54F4510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95168-45CE-4A5F-9191-F28C18D55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30CA3-156D-437E-96F2-69AE4F6EC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1495-DADB-40DB-92FB-B9D3DF494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41318-A540-489C-A0D9-A2B69437C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B3853-E17E-4EE8-A08B-527D4BE8F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14BB0-0B6C-4A81-A1C1-1BB797A79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76BAC-7859-4DB9-8424-3D7E175EE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A31AE-1E6B-4B4C-807B-D9FC33ABF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8017C-C826-4128-B919-D412DC5EA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F6FE7-7BE8-4755-93D1-881C5B563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94339-FE14-4531-9BD8-B839FCAC0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18AF4-6568-40EE-A223-D4BF7F42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CBA2-D70A-4657-8F54-3BB050F0A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AFA92-4D41-42DB-B1A6-0D4CC2C89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A929-7E14-49CE-8757-C8F2493C2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33BB-8BA1-486F-B81B-30CB22ACCB5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4188-17D3-4FD3-AAE1-032278BEEAF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studentportal.vbschools.com/students/82239/Current%20Student%20Workspace/creative%20writing/Uganda!%20Uganda!.ppt"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adstss01/82239/Improv%20writing3.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adstss01/82239/Improv%20writing4.doc"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adstss01/82239/Improv%20writing07.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REATIVE WRITING</a:t>
            </a:r>
            <a:br>
              <a:rPr sz="4000"/>
            </a:br>
            <a:r>
              <a:rPr b="0" lang="en-US" sz="4000" spc="-1" strike="noStrike">
                <a:solidFill>
                  <a:srgbClr val="006666"/>
                </a:solidFill>
                <a:latin typeface="Arial"/>
              </a:rPr>
              <a:t>[digital portfolio]</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y Jessica Thomas </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00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5]</a:t>
            </a:r>
            <a:endParaRPr b="0" lang="en-US" sz="14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one I won’t hyperlink because it is so short. It was an improv piece we had to do in which Ms. Plummer laid out various shoes around the classroom and we had to write about one and an emotion that might have came along with it. Of course me, with my intense love of fashion, I picked stiletto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1" name=""/>
          <p:cNvSpPr/>
          <p:nvPr/>
        </p:nvSpPr>
        <p:spPr>
          <a:xfrm>
            <a:off x="304920" y="3186000"/>
            <a:ext cx="854532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Fear was my shadow, haunting me like a ghost in the woods. I was nervous. I looked into the mirror at myself, trying to gather myself. I was a wreck. My hands were trembling, my knees were shaking. What if I tripped on the runway? This is my first show. I have to pull it together. I took a deep breath &amp; combed my long, dark hair. Although the crowd was loud and distracting, I blocked it out hearing almost nothing but the director calling my name. My mind became an empty space. I was up. So I took yet another deep, invigorating breath and stepped out onto the runway. My stilettos were as black as a moonless night, and with red soles they stalked the runway as I strutted my avant-garde look. Suddenly, the nervousness disappeared and I became fierce; I was pro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etry.</a:t>
            </a:r>
            <a:r>
              <a:rPr b="0" lang="en-US" sz="1400" spc="-1" strike="noStrike">
                <a:solidFill>
                  <a:srgbClr val="006666"/>
                </a:solidFill>
                <a:latin typeface="Arial"/>
              </a:rPr>
              <a:t> [page 1]</a:t>
            </a:r>
            <a:endParaRPr b="0" lang="en-US" sz="14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etry is one of my favorite types of writing because I can express myself with my fullest form of creativity. However I have chosen two of my best poems to showcas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etry. </a:t>
            </a:r>
            <a:r>
              <a:rPr b="0" lang="en-US" sz="1400" spc="-1" strike="noStrike">
                <a:solidFill>
                  <a:srgbClr val="006666"/>
                </a:solidFill>
                <a:latin typeface="Arial"/>
              </a:rPr>
              <a:t>[page 2]</a:t>
            </a:r>
            <a:endParaRPr b="0" lang="en-US" sz="14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Short in simpl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s one is a villanelle I called </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uman Natur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Sonnet</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minisc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nd.</a:t>
            </a: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ank you for taking the time to view my digital portfolio. I am only seventeen and hope that my love of writing will coincide with my love fashion and take my to places of success in the futur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
              </a:rPr>
              <a:t>Would you like to see something ext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anks.</a:t>
            </a: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 wish I had all the time in the world to show the world every piece I’ve ever written; all the great works, and the rough drafts, even the nonsense pieces. Writing is a passion of mine that I take pride in. So I would just like to first of thank my parents for raising me, Ms. Plummer (creative writing), Mrs. Comer (English 11), Mrs. Motley (world literature 10), and Mrs. Dusenberry for her help in the color of water book reading and writing contest in which I won second place. Thank you everyone for viewing my creative writing digital portfolio. I hope you enjoy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able of Contents</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BOUT M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sonal essay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ort Stor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mprov writ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em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BOUT ME .</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Jessica Thomas . It’s just a name, but what gives a person his or her identity? Two words: personal expression. Personal Expression to me is very important. And of course the best way I express myself is through writing.</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remember the first day of Mrs. Plummer’s creative writing class. The very first activity was writing a poem about ourselves describing what we were like. Here’s mine:</a:t>
            </a:r>
            <a:endParaRPr b="0" lang="en-US" sz="1400" spc="-1" strike="noStrike">
              <a:solidFill>
                <a:srgbClr val="000000"/>
              </a:solidFill>
              <a:latin typeface="Verdana"/>
            </a:endParaRPr>
          </a:p>
        </p:txBody>
      </p:sp>
      <p:sp>
        <p:nvSpPr>
          <p:cNvPr id="96" name=""/>
          <p:cNvSpPr/>
          <p:nvPr/>
        </p:nvSpPr>
        <p:spPr>
          <a:xfrm>
            <a:off x="1296720" y="3654360"/>
            <a:ext cx="7020360" cy="265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Jessica</a:t>
            </a:r>
            <a:r>
              <a:rPr b="1" lang="en-US" sz="1400" spc="-1" strike="noStrike">
                <a:solidFill>
                  <a:srgbClr val="000000"/>
                </a:solidFill>
                <a:latin typeface="Verdana"/>
              </a:rPr>
              <a:t>,</a:t>
            </a:r>
            <a:br>
              <a:rPr sz="1400"/>
            </a:br>
            <a:r>
              <a:rPr b="1" lang="en-US" sz="1400" spc="-1" strike="noStrike">
                <a:solidFill>
                  <a:srgbClr val="000000"/>
                </a:solidFill>
                <a:latin typeface="Verdana"/>
              </a:rPr>
              <a:t>caring, daring, artistic, optimistic</a:t>
            </a:r>
            <a:br>
              <a:rPr sz="1400"/>
            </a:br>
            <a:r>
              <a:rPr b="1" lang="en-US" sz="1400" spc="-1" strike="noStrike">
                <a:solidFill>
                  <a:srgbClr val="000000"/>
                </a:solidFill>
                <a:latin typeface="Verdana"/>
              </a:rPr>
              <a:t>child of a hardworking man and an outspoken mother</a:t>
            </a:r>
            <a:br>
              <a:rPr sz="1400"/>
            </a:br>
            <a:r>
              <a:rPr b="1" lang="en-US" sz="1400" spc="-1" strike="noStrike">
                <a:solidFill>
                  <a:srgbClr val="000000"/>
                </a:solidFill>
                <a:latin typeface="Verdana"/>
              </a:rPr>
              <a:t>fan of creativity, fashion, the things that make life fun</a:t>
            </a:r>
            <a:br>
              <a:rPr sz="1400"/>
            </a:br>
            <a:r>
              <a:rPr b="1" lang="en-US" sz="1400" spc="-1" strike="noStrike">
                <a:solidFill>
                  <a:srgbClr val="000000"/>
                </a:solidFill>
                <a:latin typeface="Verdana"/>
              </a:rPr>
              <a:t>who feels dedicated, poetic and hopeful</a:t>
            </a:r>
            <a:br>
              <a:rPr sz="1400"/>
            </a:br>
            <a:r>
              <a:rPr b="1" lang="en-US" sz="1400" spc="-1" strike="noStrike">
                <a:solidFill>
                  <a:srgbClr val="000000"/>
                </a:solidFill>
                <a:latin typeface="Verdana"/>
              </a:rPr>
              <a:t>who needs love, friendship, and character</a:t>
            </a:r>
            <a:br>
              <a:rPr sz="1400"/>
            </a:br>
            <a:r>
              <a:rPr b="1" lang="en-US" sz="1400" spc="-1" strike="noStrike">
                <a:solidFill>
                  <a:srgbClr val="000000"/>
                </a:solidFill>
                <a:latin typeface="Verdana"/>
              </a:rPr>
              <a:t>who fears abandonment, pain and sorrow</a:t>
            </a:r>
            <a:br>
              <a:rPr sz="1400"/>
            </a:br>
            <a:r>
              <a:rPr b="1" lang="en-US" sz="1400" spc="-1" strike="noStrike">
                <a:solidFill>
                  <a:srgbClr val="000000"/>
                </a:solidFill>
                <a:latin typeface="Verdana"/>
              </a:rPr>
              <a:t>who likes to make friends, shop, and bake</a:t>
            </a:r>
            <a:br>
              <a:rPr sz="1400"/>
            </a:br>
            <a:r>
              <a:rPr b="1" lang="en-US" sz="1400" spc="-1" strike="noStrike">
                <a:solidFill>
                  <a:srgbClr val="000000"/>
                </a:solidFill>
                <a:latin typeface="Verdana"/>
              </a:rPr>
              <a:t>who would like to see success in her life, happiness, and the rest of the world</a:t>
            </a:r>
            <a:br>
              <a:rPr sz="1400"/>
            </a:br>
            <a:r>
              <a:rPr b="1" lang="en-US" sz="1400" spc="-1" strike="noStrike">
                <a:solidFill>
                  <a:srgbClr val="000000"/>
                </a:solidFill>
                <a:latin typeface="Verdana"/>
              </a:rPr>
              <a:t>resident of my imagination,</a:t>
            </a:r>
            <a:br>
              <a:rPr sz="1400"/>
            </a:br>
            <a:r>
              <a:rPr b="1" lang="en-US" sz="1400" spc="-1" strike="noStrike" u="sng">
                <a:solidFill>
                  <a:srgbClr val="000000"/>
                </a:solidFill>
                <a:uFillTx/>
                <a:latin typeface="Verdana"/>
              </a:rPr>
              <a:t>Thoma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rsonal essay.</a:t>
            </a:r>
            <a:endParaRPr b="0" lang="en-US" sz="3600" spc="-1" strike="noStrike">
              <a:solidFill>
                <a:srgbClr val="006666"/>
              </a:solidFill>
              <a:latin typeface="Arial"/>
            </a:endParaRPr>
          </a:p>
        </p:txBody>
      </p:sp>
      <p:sp>
        <p:nvSpPr>
          <p:cNvPr id="98" name="PlaceHolder 2"/>
          <p:cNvSpPr>
            <a:spLocks noGrp="1"/>
          </p:cNvSpPr>
          <p:nvPr>
            <p:ph/>
          </p:nvPr>
        </p:nvSpPr>
        <p:spPr>
          <a:xfrm>
            <a:off x="1218960" y="2133720"/>
            <a:ext cx="7313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I can truly say this essay was done from the heart. It’s a personal essay I wrote about someone dear to me; a special guy. This essay definitely brings out the way he makes me feel.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It’s called Hip-Hop attraction.</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his second personal essay is written about me and my aspect of growing up compared to my life now.</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st Like Barbi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hort Story.</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had a lot of fun writing this piece. It’s a fictional piece so I really got to put my imagination into this. With that said, I took a </a:t>
            </a:r>
            <a:r>
              <a:rPr b="0" i="1" lang="en-US" sz="2800" spc="-1" strike="noStrike">
                <a:solidFill>
                  <a:srgbClr val="000000"/>
                </a:solidFill>
                <a:latin typeface="Verdana"/>
              </a:rPr>
              <a:t>Sleeping</a:t>
            </a:r>
            <a:r>
              <a:rPr b="0" lang="en-US" sz="2800" spc="-1" strike="noStrike">
                <a:solidFill>
                  <a:srgbClr val="000000"/>
                </a:solidFill>
                <a:latin typeface="Verdana"/>
              </a:rPr>
              <a:t> </a:t>
            </a:r>
            <a:r>
              <a:rPr b="0" i="1" lang="en-US" sz="2800" spc="-1" strike="noStrike">
                <a:solidFill>
                  <a:srgbClr val="000000"/>
                </a:solidFill>
                <a:latin typeface="Verdana"/>
              </a:rPr>
              <a:t>Beauty</a:t>
            </a:r>
            <a:r>
              <a:rPr b="0" lang="en-US" sz="2800" spc="-1" strike="noStrike">
                <a:solidFill>
                  <a:srgbClr val="000000"/>
                </a:solidFill>
                <a:latin typeface="Verdana"/>
              </a:rPr>
              <a:t>-type scene and put a very </a:t>
            </a:r>
            <a:r>
              <a:rPr b="0" i="1" lang="en-US" sz="2800" spc="-1" strike="noStrike">
                <a:solidFill>
                  <a:srgbClr val="000000"/>
                </a:solidFill>
                <a:latin typeface="Verdana"/>
              </a:rPr>
              <a:t>Poe</a:t>
            </a:r>
            <a:r>
              <a:rPr b="0" lang="en-US" sz="2800" spc="-1" strike="noStrike">
                <a:solidFill>
                  <a:srgbClr val="000000"/>
                </a:solidFill>
                <a:latin typeface="Verdana"/>
              </a:rPr>
              <a:t>-like mood to it. The theme came out wonderful and I feel like my classmate’s liked it a lot.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 titled it Beauty in Obsolescenc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1]</a:t>
            </a:r>
            <a:endParaRPr b="0" lang="en-US" sz="14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y creative writing teacher, (wonderful Ms. Plummer) would have us stretch our minds and challenge our writing abilities every morning with “Improv exercises”. What would happen was, Ms. Plummer would write a theme or a set of “image words” on the board and give us a time limit and we were allowed to write about whatever came to mind after reading these words (in all appropriateness) but we had to include all of the words within the pieces. I liked this type of warm up and I shocked myself with most of the results. We wrote quite a few but I only chose my favorit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2]</a:t>
            </a:r>
            <a:endParaRPr b="0" lang="en-US" sz="14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r one of the improvs, we had to write about a personal experience in vivid details. This piece is very self-explanatory. This one is </a:t>
            </a:r>
            <a:r>
              <a:rPr b="0" lang="en-US" sz="2900" spc="-1" strike="noStrike" u="sng">
                <a:solidFill>
                  <a:srgbClr val="006666"/>
                </a:solidFill>
                <a:uFillTx/>
                <a:latin typeface="Verdana"/>
                <a:hlinkClick r:id="rId1"/>
              </a:rPr>
              <a:t>untitled</a:t>
            </a:r>
            <a:r>
              <a:rPr b="0" lang="en-US" sz="2900" spc="-1" strike="noStrike" u="sng">
                <a:solidFill>
                  <a:srgbClr val="000000"/>
                </a:solidFill>
                <a:uFillTx/>
                <a:latin typeface="Verdana"/>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3]</a:t>
            </a:r>
            <a:endParaRPr b="0" lang="en-US" sz="14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e other improv we did was with word play; she taught us about </a:t>
            </a:r>
            <a:r>
              <a:rPr b="0" i="1" lang="en-US" sz="2500" spc="-1" strike="noStrike">
                <a:solidFill>
                  <a:srgbClr val="000000"/>
                </a:solidFill>
                <a:latin typeface="Verdana"/>
              </a:rPr>
              <a:t>prosody </a:t>
            </a:r>
            <a:r>
              <a:rPr b="0" lang="en-US" sz="2500" spc="-1" strike="noStrike">
                <a:solidFill>
                  <a:srgbClr val="000000"/>
                </a:solidFill>
                <a:latin typeface="Verdana"/>
              </a:rPr>
              <a:t>and made us work with the famous poem </a:t>
            </a:r>
            <a:r>
              <a:rPr b="0" i="1" lang="en-US" sz="2500" spc="-1" strike="noStrike" u="sng">
                <a:solidFill>
                  <a:srgbClr val="000000"/>
                </a:solidFill>
                <a:uFillTx/>
                <a:latin typeface="Verdana"/>
              </a:rPr>
              <a:t>“Jabberwocky</a:t>
            </a:r>
            <a:r>
              <a:rPr b="0" lang="en-US" sz="2500" spc="-1" strike="noStrike">
                <a:solidFill>
                  <a:srgbClr val="000000"/>
                </a:solidFill>
                <a:latin typeface="Verdana"/>
              </a:rPr>
              <a:t>”. We took certain words and “flipped” them. For example, words like </a:t>
            </a:r>
            <a:r>
              <a:rPr b="0" i="1" lang="en-US" sz="2500" spc="-1" strike="noStrike">
                <a:solidFill>
                  <a:srgbClr val="000000"/>
                </a:solidFill>
                <a:latin typeface="Verdana"/>
              </a:rPr>
              <a:t>butterfly </a:t>
            </a:r>
            <a:r>
              <a:rPr b="0" lang="en-US" sz="2500" spc="-1" strike="noStrike">
                <a:solidFill>
                  <a:srgbClr val="000000"/>
                </a:solidFill>
                <a:latin typeface="Verdana"/>
              </a:rPr>
              <a:t>became </a:t>
            </a:r>
            <a:r>
              <a:rPr b="0" i="1" lang="en-US" sz="2500" spc="-1" strike="noStrike">
                <a:solidFill>
                  <a:srgbClr val="000000"/>
                </a:solidFill>
                <a:latin typeface="Verdana"/>
              </a:rPr>
              <a:t>flybutter. </a:t>
            </a:r>
            <a:r>
              <a:rPr b="0" lang="en-US" sz="2500" spc="-1" strike="noStrike">
                <a:solidFill>
                  <a:srgbClr val="000000"/>
                </a:solidFill>
                <a:latin typeface="Verdana"/>
              </a:rPr>
              <a:t>It was entertaining to write and the outcome was interesting. </a:t>
            </a:r>
            <a:endParaRPr b="0" lang="en-US" sz="2500" spc="-1" strike="noStrike">
              <a:solidFill>
                <a:srgbClr val="000000"/>
              </a:solidFill>
              <a:latin typeface="Verdana"/>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 titled this one </a:t>
            </a:r>
            <a:r>
              <a:rPr b="0" lang="en-US" sz="2500" spc="-1" strike="noStrike" u="sng">
                <a:solidFill>
                  <a:srgbClr val="006666"/>
                </a:solidFill>
                <a:uFillTx/>
                <a:latin typeface="Verdana"/>
                <a:hlinkClick r:id="rId1"/>
              </a:rPr>
              <a:t>Dreamday</a:t>
            </a:r>
            <a:r>
              <a:rPr b="0" lang="en-US" sz="2500" spc="-1" strike="noStrike">
                <a:solidFill>
                  <a:srgbClr val="000000"/>
                </a:solidFill>
                <a:latin typeface="Verdana"/>
              </a:rPr>
              <a: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4]</a:t>
            </a:r>
            <a:endParaRPr b="0" lang="en-US" sz="1400" spc="-1" strike="noStrike">
              <a:solidFill>
                <a:srgbClr val="006666"/>
              </a:solidFill>
              <a:latin typeface="Arial"/>
            </a:endParaRPr>
          </a:p>
        </p:txBody>
      </p:sp>
      <p:sp>
        <p:nvSpPr>
          <p:cNvPr id="108" name="PlaceHolder 2"/>
          <p:cNvSpPr>
            <a:spLocks noGrp="1"/>
          </p:cNvSpPr>
          <p:nvPr>
            <p:ph/>
          </p:nvPr>
        </p:nvSpPr>
        <p:spPr>
          <a:xfrm>
            <a:off x="1371600" y="1752480"/>
            <a:ext cx="7313760" cy="4114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ow if you’re looking something really interesting to read I’d recommend my next Improv. All I remember is Ms. Plummer saying, “compare yourself to an animal you resemble”. It took me a while to think about what animal I resembled. I thought about looks, then personality traits, then heard Ms. Plummer say I resembled a fox. I was just like “nahhh..” haha. But after a while, it came to me. This is written in iambic pentameter. I didn’t tile it, but can you still see </a:t>
            </a:r>
            <a:r>
              <a:rPr b="0" lang="en-US" sz="2400" spc="-1" strike="noStrike" u="sng">
                <a:solidFill>
                  <a:srgbClr val="006666"/>
                </a:solidFill>
                <a:uFillTx/>
                <a:latin typeface="Verdana"/>
                <a:hlinkClick r:id="rId1"/>
              </a:rPr>
              <a:t>the animal </a:t>
            </a:r>
            <a:r>
              <a:rPr b="0" lang="en-US" sz="2400" spc="-1" strike="noStrike" u="sng">
                <a:solidFill>
                  <a:srgbClr val="000000"/>
                </a:solidFill>
                <a:uFillTx/>
                <a:latin typeface="Verdana"/>
              </a:rPr>
              <a:t>in m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40:44Z</dcterms:created>
  <dc:creator>Virginia Beach Public Schools</dc:creator>
  <dc:description/>
  <dc:language>en-US</dc:language>
  <cp:lastModifiedBy>Virginia Beach Public Schools</cp:lastModifiedBy>
  <dcterms:modified xsi:type="dcterms:W3CDTF">2008-06-09T13:02:01Z</dcterms:modified>
  <cp:revision>7</cp:revision>
  <dc:subject/>
  <dc:title>CREATIVE WRITING [digital portfoli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